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png" ContentType="image/png"/>
  <Override PartName="/ppt/media/image9.jpeg" ContentType="image/jpeg"/>
  <Override PartName="/ppt/media/image8.jpeg" ContentType="image/jpeg"/>
  <Override PartName="/ppt/media/image18.jpeg" ContentType="image/jpeg"/>
  <Override PartName="/ppt/media/image7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2852-3833-482C-980F-B3EBBCB8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9D5A-CAA2-4B9F-857F-9677FD78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E65E8-55F5-4825-BF9F-8C5ADF92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49E92-E9E4-4C32-8694-481FA523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B637F-79EB-4D67-BCE3-2441CCE8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C628A-91EE-433B-876C-277C6B66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67F9A-179E-48FE-8ADC-2E05E4C6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BB1A1-D535-4CB6-9F8B-409215B3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B3EFB-F3E6-4E80-B9D9-A87F61D7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1A717-6A58-42D6-A5A3-D0DAAE673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AE5E6-8C39-4B6B-A1C8-C15C121E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C510F-A2EA-4777-9E49-4ACD2A3E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E224-606E-4112-A098-433E7853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B4B22-CEF8-4A7E-B39F-F1146EF9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529EA-870F-4BF0-94F5-4BBA8E69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E06C8-EAD5-4886-BCF6-F73713F6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D22FD-DDEF-488F-A308-9E6A3168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63323-1289-4AC2-8734-BAA8171B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97C7D-EC4D-4ACA-ADC8-C3BEC1F7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92452-0FD6-4AE3-94FE-1A8FD6E7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5A9D1-376D-4316-9153-151B0B93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57464-63EA-4688-B065-C25CB594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D7CC2-F888-4534-BEF3-0A8862C0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824C-7B4F-461A-AB83-19BC6ED6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5E9D4-CC9D-44B4-AFE2-C35798289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25254-E6DA-419C-A1FE-3E2E864D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467A6-A19C-4B06-9ED1-C4C22300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02D04-E01A-4ACE-82AB-B8164F90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963A7-BCDC-4313-BD5F-C30292E2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028C7-00FA-459A-A4CF-55221207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86A5F-6AFA-463B-AD0E-2D056661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D2B3C-D27C-4195-99CC-92F6A559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B5A4A-87C3-4EC4-9EC8-D60ED45B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8A4FC-0723-4542-BEB0-C9257C6B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D71F-9392-4661-B9CC-54F1BC0A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8338D-1522-4B83-9F3F-E478187B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2588E-5472-4D89-9AC8-1427A163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463C1-624E-48B3-8188-6CC3DDE3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17BFE-5E56-44C3-B33B-5F4E5CC9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F52E2-C75A-4736-863A-A2E80353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1313D-BD81-46EB-8F42-EB88A7AC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BA858-987D-466C-A42C-5C4B158B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5A638-2349-4B21-B9B2-82C9FCC7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BD38E-A2EE-4414-8166-EC84725B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05269-0BC0-4C59-9F00-BCB4C5D4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1F81-8C94-4ACF-AA7B-A6FC09B7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297C3-9698-4377-90D0-F5FFE4EF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54B1A-8EBC-4743-83DF-334E4941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644C8-44D4-425F-BB70-F1DB1894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59924-FAFF-4221-98CB-08FC8C1A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F88BD-4A45-463C-A461-890F18A6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23D6-7284-4ACB-8467-C2AE5F20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4B31-5EE3-499A-9866-CE410920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C914-3222-4E46-875E-1BACE971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333D-903F-4664-A963-5AEF5B95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B469-868A-4950-AA03-DDEDD645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0F5F-01EC-46B6-AF37-8404CFB1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7CD8-78C5-4DB5-A377-DCDC5216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9495-771E-42C4-B535-55EF20C7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14EE-6E8D-4495-BC40-FDA06092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51F2-0139-478E-91A0-FC4AE7BBB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854B-E62A-4532-83D7-08EEC75E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E41D4-7259-417F-9A07-F5F1C13D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3D3F7-DEBE-45F1-B7F1-1554CBE7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EB3DE-BB68-48A7-918E-6F995E53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A12AC-6068-44EE-879F-2009F895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5891E-E73D-498F-8EC6-EC5C7CF7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69CE-1EAE-46E4-8FAB-F2597DC4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3611A-56C8-46FF-8186-3FC57828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52DED-C613-43EF-B73C-804FD811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FA8C2-D41C-4155-8B32-FED35E50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D8B08-74C2-47F8-AA49-8BDFFE33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AD8D4-06D2-459E-901F-EFF4CF45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6A8AB-DEC3-45CB-8572-5C545C5E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A78B0-7E31-4C4E-B3EF-861C380C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49526-9C91-468A-B041-5DBACF85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31E58-7C76-47E7-B59E-FCDDCDE4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DD70D-DC84-44A6-9C7E-E9FFEC24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34CC-CB3F-46B0-BBE5-205561C3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2C0E4-3072-45C5-B7B4-37FF9533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5905B-B212-4912-B8C3-71A79DC4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FF90A-9105-44AD-A0AC-B785945F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7B699-EE76-494A-9850-5026EE76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E3D67-6CD8-4B92-8599-FC2A5B11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2D176-95D9-4331-8C45-159384F3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00C0D-5A99-4426-AE10-2D160736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921CF-5FB5-43BE-A1C8-A194D7912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491CD-7FFF-4245-9F7F-9DEB8410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621E6-547F-400F-8C43-34CE0B8D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B5E-5258-45B2-A52E-DCB60ABC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83F63-F830-4BB1-9B9C-F43F1624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D737C-4335-4671-B94D-60518B6F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3CD43-31EE-4E95-8C70-A44DAF9F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9D934-2C6B-47A0-B4A0-0C18A2E1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B117D-8ADF-4968-8BFE-4A372C1E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D2DF6-FB35-44B4-99E6-0F671A08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524E9-0260-481E-A023-9CCCF848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4D7FF-431A-42D4-B28A-DE2B47C8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7261E-2F25-44F5-998A-CD62F52F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FE22B-A331-4E2C-9B65-5CA5E2E1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AC63-0E7F-4B51-BD22-0680FD4A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C340C-684A-489C-B83C-C617E487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6EFF7-16E6-4A07-A07E-18E48E1C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297FC-A98F-4F0F-A102-2859D7E7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CA7AE-D6E7-408D-BC9E-8C7A0C86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C7B50-581F-4EE9-AADA-D834D2E6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979FE-A427-4929-A80A-2396287C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7DBB6-4245-4D1E-AB9C-848A29CF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036AE-ACF5-439D-8755-2ED7C0F9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59939-0315-4511-A744-F8540DBB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17C88-D5BC-46B3-9327-4D46CEF9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3AE7-F7EC-43AA-B47F-6B6F0127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FCF9D-AAE0-440E-8713-3518C536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01324-728F-457C-9456-3D30656F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F9CCA-50CE-4A32-8481-E6C504E2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33378-B3B2-464F-86D3-1E83DDB4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4EC31-9174-46A1-9FB2-6980879A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F4E6A-7A1B-4D76-99CE-719BE503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282E8-2202-4613-A189-8457F680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D50D3-C454-47A9-B270-025F93A7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DCDF6-BBE6-4F0C-AC20-90BFD148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FF115-68FE-4227-82BB-506C3732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58C2-8531-4DD4-B13E-310A9FF6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C7A38-2F82-43B9-AE57-5D88A66F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E5F25-A062-4E6E-B5E1-DA232B2F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4D136-C934-4BF1-817E-398F3AA6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E1E3C-2FA4-4D18-A550-7CC88B48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D6DD2-557B-495F-91ED-B68DD452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34EC3-6DE3-493E-8A77-4DA16726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7E912-DB71-47B0-9483-D67BB693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EBDF7-F73E-4D68-8D82-9ED2D5D5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C2A8D-E7C3-42F1-8332-D02581C0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0C45E-0BAE-4604-A3B2-A2FDF784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7569-15F8-4E8A-A053-DAD7F8F6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6F35D-AE75-4CD6-9D8B-36C81310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38675-3421-41FE-92C2-D439CBF4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65171-54CE-45F4-9C0D-3E7C3FF1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DF8DC-EF5A-42DC-849A-613B3098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3E036-2039-4EE0-99CF-3AEC1517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1DB2E-ABD6-497B-9822-44FCBC2C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2298E-1F88-4C0F-8F27-F58BA6E22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93419-C252-4CF4-B5FD-C538F135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57F10-4804-41E7-81B5-6F291F20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FD572-A325-440A-9CF1-688029C8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44033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44034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44035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44036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44037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44038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44039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96E0-679C-4665-B8EE-CDDF08F1E43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29D9-D01F-4A1B-A1E7-87500C69318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3B1B-ABF4-4003-8BE8-3CBE88FD845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EF21-86BA-4D7D-8A72-67B446361A1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45057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45058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45059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45060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45061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45062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45063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EB8C-3439-4200-98B7-9666BC5ABF7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5639-91CE-4A38-8C18-DF186890ED3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376C-DEB2-49ED-84EC-AB467653140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F021-C221-4E39-ABBE-4B5D16E7E0F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0E3E-B7F2-49A8-9B38-9D165B3D8D4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19A3-C503-4349-B082-F7A69DC8508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652D-681E-4290-B1E2-809C2162021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5536-680F-462D-A0FD-13C16A5566E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7" name="TextBox 1"/>
          <p:cNvSpPr/>
          <p:nvPr/>
        </p:nvSpPr>
        <p:spPr>
          <a:xfrm>
            <a:off x="1476360" y="134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9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明天要远足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700360" y="1989000"/>
            <a:ext cx="3816360" cy="360"/>
            <a:chOff x="2700360" y="1989000"/>
            <a:chExt cx="3816360" cy="360"/>
          </a:xfrm>
        </p:grpSpPr>
        <p:sp>
          <p:nvSpPr>
            <p:cNvPr id="509" name="直线连接符 21"/>
            <p:cNvSpPr/>
            <p:nvPr/>
          </p:nvSpPr>
          <p:spPr>
            <a:xfrm>
              <a:off x="2700360" y="1989000"/>
              <a:ext cx="3816360" cy="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0" name=""/>
            <p:cNvSpPr txBox="1"/>
            <p:nvPr/>
          </p:nvSpPr>
          <p:spPr>
            <a:xfrm>
              <a:off x="2700360" y="1989000"/>
              <a:ext cx="381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511" name="Picture 2" descr="http://p4.so.qhimg.com/t0189899f028f22cbde.jpg"/>
          <p:cNvPicPr/>
          <p:nvPr/>
        </p:nvPicPr>
        <p:blipFill>
          <a:blip r:embed="rId1"/>
          <a:stretch/>
        </p:blipFill>
        <p:spPr>
          <a:xfrm>
            <a:off x="2162160" y="2565360"/>
            <a:ext cx="4892760" cy="3057480"/>
          </a:xfrm>
          <a:prstGeom prst="rect">
            <a:avLst/>
          </a:prstGeom>
          <a:ln w="0">
            <a:noFill/>
          </a:ln>
        </p:spPr>
      </p:pic>
      <p:sp>
        <p:nvSpPr>
          <p:cNvPr id="512" name="矩形 15365"/>
          <p:cNvSpPr txBox="1"/>
          <p:nvPr/>
        </p:nvSpPr>
        <p:spPr>
          <a:xfrm>
            <a:off x="759636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www.xkb1.com</a:t>
            </a:r>
            <a:endParaRPr b="0" i="1" lang="en-US" sz="18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394920" y="1773000"/>
            <a:ext cx="2073600" cy="6120"/>
            <a:chOff x="394920" y="1773000"/>
            <a:chExt cx="2073600" cy="6120"/>
          </a:xfrm>
        </p:grpSpPr>
        <p:sp>
          <p:nvSpPr>
            <p:cNvPr id="590" name="直线连接符 21"/>
            <p:cNvSpPr/>
            <p:nvPr/>
          </p:nvSpPr>
          <p:spPr>
            <a:xfrm flipV="1">
              <a:off x="395280" y="177300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1" name=""/>
            <p:cNvSpPr txBox="1"/>
            <p:nvPr/>
          </p:nvSpPr>
          <p:spPr>
            <a:xfrm rot="10800000">
              <a:off x="394920" y="177300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592" name="Picture 7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5"/>
          <p:cNvSpPr/>
          <p:nvPr/>
        </p:nvSpPr>
        <p:spPr>
          <a:xfrm>
            <a:off x="324000" y="1514520"/>
            <a:ext cx="8820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认真自读课文，用心思考下面问题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1</a:t>
            </a:r>
            <a:r>
              <a:rPr b="0" i="1" lang="zh-CN" sz="36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、为什么“我”睡不着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2</a:t>
            </a:r>
            <a:r>
              <a:rPr b="0" i="1" lang="zh-CN" sz="36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、你有这样的心情吗？和大家说一说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小组讨论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知道远足是什么意思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爸爸妈妈都去过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远足的前一夜在想些什么呢？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WordArt 4"/>
          <p:cNvSpPr txBox="1"/>
          <p:nvPr/>
        </p:nvSpPr>
        <p:spPr>
          <a:xfrm>
            <a:off x="2484360" y="2133720"/>
            <a:ext cx="4248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听老师范读</a:t>
            </a:r>
            <a:endParaRPr b="0" i="1" lang="en-US" sz="24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多种颜色的海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5" descr="link?url=http%3A%2F%2Fimg02"/>
          <p:cNvPicPr/>
          <p:nvPr/>
        </p:nvPicPr>
        <p:blipFill>
          <a:blip r:embed="rId1"/>
          <a:stretch/>
        </p:blipFill>
        <p:spPr>
          <a:xfrm>
            <a:off x="1547640" y="2565360"/>
            <a:ext cx="554544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洁白柔软的云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5" descr="67df191017ec9192"/>
          <p:cNvPicPr/>
          <p:nvPr/>
        </p:nvPicPr>
        <p:blipFill>
          <a:blip r:embed="rId1"/>
          <a:stretch/>
        </p:blipFill>
        <p:spPr>
          <a:xfrm>
            <a:off x="2124000" y="1989000"/>
            <a:ext cx="5184720" cy="3383280"/>
          </a:xfrm>
          <a:prstGeom prst="rect">
            <a:avLst/>
          </a:prstGeom>
          <a:ln w="0">
            <a:noFill/>
          </a:ln>
        </p:spPr>
      </p:pic>
      <p:sp>
        <p:nvSpPr>
          <p:cNvPr id="601" name="矩形 28675"/>
          <p:cNvSpPr txBox="1"/>
          <p:nvPr/>
        </p:nvSpPr>
        <p:spPr>
          <a:xfrm>
            <a:off x="759636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www.xkb1.com</a:t>
            </a:r>
            <a:endParaRPr b="0" i="1" lang="en-US" sz="18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WordArt 4"/>
          <p:cNvSpPr txBox="1"/>
          <p:nvPr/>
        </p:nvSpPr>
        <p:spPr>
          <a:xfrm>
            <a:off x="2195640" y="1989000"/>
            <a:ext cx="3776400" cy="17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你来读一读！</a:t>
            </a:r>
            <a:endParaRPr b="1" i="1" lang="en-US" sz="24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讨    论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睡不着的时候你在做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4"/>
          <p:cNvSpPr txBox="1"/>
          <p:nvPr/>
        </p:nvSpPr>
        <p:spPr>
          <a:xfrm>
            <a:off x="1476360" y="2060640"/>
            <a:ext cx="5110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试着背过它</a:t>
            </a:r>
            <a:endParaRPr b="0" i="1" lang="en-US" sz="24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  <p:sp>
        <p:nvSpPr>
          <p:cNvPr id="607" name="矩形 31746"/>
          <p:cNvSpPr txBox="1"/>
          <p:nvPr/>
        </p:nvSpPr>
        <p:spPr>
          <a:xfrm>
            <a:off x="759636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www.xkb1.com</a:t>
            </a:r>
            <a:endParaRPr b="0" i="1" lang="en-US" sz="18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610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12" name="Picture 25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613" name="TextBox 2"/>
          <p:cNvSpPr/>
          <p:nvPr/>
        </p:nvSpPr>
        <p:spPr>
          <a:xfrm>
            <a:off x="611280" y="2276640"/>
            <a:ext cx="792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明天要远足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4" name="左大括号 3"/>
          <p:cNvSpPr/>
          <p:nvPr/>
        </p:nvSpPr>
        <p:spPr>
          <a:xfrm>
            <a:off x="1549440" y="2565360"/>
            <a:ext cx="358560" cy="3384720"/>
          </a:xfrm>
          <a:custGeom>
            <a:avLst/>
            <a:gdLst>
              <a:gd name="textAreaLeft" fmla="*/ 228960 w 358560"/>
              <a:gd name="textAreaRight" fmla="*/ 358560 w 358560"/>
              <a:gd name="textAreaTop" fmla="*/ 9000 h 3384720"/>
              <a:gd name="textAreaBottom" fmla="*/ 33757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90"/>
                </a:cubicBezTo>
                <a:lnTo>
                  <a:pt x="10800" y="10610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90"/>
                </a:cubicBezTo>
                <a:lnTo>
                  <a:pt x="10800" y="21410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5" name="TextBox 4"/>
          <p:cNvSpPr/>
          <p:nvPr/>
        </p:nvSpPr>
        <p:spPr>
          <a:xfrm>
            <a:off x="1908000" y="4508640"/>
            <a:ext cx="38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云——洁白柔软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6" name="TextBox 12"/>
          <p:cNvSpPr/>
          <p:nvPr/>
        </p:nvSpPr>
        <p:spPr>
          <a:xfrm>
            <a:off x="1835280" y="3357720"/>
            <a:ext cx="42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大海——多种颜色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7" name="左大括号 17"/>
          <p:cNvSpPr/>
          <p:nvPr/>
        </p:nvSpPr>
        <p:spPr>
          <a:xfrm flipH="1">
            <a:off x="5709600" y="2568600"/>
            <a:ext cx="431640" cy="3382920"/>
          </a:xfrm>
          <a:custGeom>
            <a:avLst/>
            <a:gdLst>
              <a:gd name="textAreaLeft" fmla="*/ 275400 w 431640"/>
              <a:gd name="textAreaRight" fmla="*/ 431640 w 431640"/>
              <a:gd name="textAreaTop" fmla="*/ 11160 h 3382920"/>
              <a:gd name="textAreaBottom" fmla="*/ 3371760 h 33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5"/>
                  <a:pt x="10800" y="229"/>
                </a:cubicBezTo>
                <a:lnTo>
                  <a:pt x="10800" y="10571"/>
                </a:lnTo>
                <a:cubicBezTo>
                  <a:pt x="10800" y="10686"/>
                  <a:pt x="5400" y="10800"/>
                  <a:pt x="0" y="10800"/>
                </a:cubicBezTo>
                <a:cubicBezTo>
                  <a:pt x="5400" y="10800"/>
                  <a:pt x="10800" y="10915"/>
                  <a:pt x="10800" y="11029"/>
                </a:cubicBezTo>
                <a:lnTo>
                  <a:pt x="10800" y="21371"/>
                </a:lnTo>
                <a:cubicBezTo>
                  <a:pt x="10800" y="21486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8" name="TextBox 18"/>
          <p:cNvSpPr/>
          <p:nvPr/>
        </p:nvSpPr>
        <p:spPr>
          <a:xfrm>
            <a:off x="6683400" y="2538360"/>
            <a:ext cx="520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对外边世界的向往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621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2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23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6"/>
          <p:cNvSpPr/>
          <p:nvPr/>
        </p:nvSpPr>
        <p:spPr>
          <a:xfrm>
            <a:off x="1081080" y="2251080"/>
            <a:ext cx="64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996633"/>
                </a:solidFill>
                <a:uFillTx/>
                <a:latin typeface="华文楷体"/>
                <a:ea typeface="华文楷体"/>
              </a:rPr>
              <a:t>　　通过对大海和云的向往，体现了“我”对外边世界的向往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4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5" name="Picture 9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305080" cy="60948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6"/>
          <p:cNvSpPr/>
          <p:nvPr/>
        </p:nvSpPr>
        <p:spPr>
          <a:xfrm>
            <a:off x="3348000" y="3242520"/>
            <a:ext cx="5543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方素珍，中国台湾资深儿童文学作家，长期从事童诗、童话及绘本故事的创作、翻译以及语文教科书的编写。历任海峡两岸儿童文学研究会理事长、康轩教科书编委、香港教育出版社语文科顾问、首都师范大学学前教育学院绘本阅读中心顾问。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7" name="Picture 8" descr="60"/>
          <p:cNvPicPr/>
          <p:nvPr/>
        </p:nvPicPr>
        <p:blipFill>
          <a:blip r:embed="rId2"/>
          <a:stretch/>
        </p:blipFill>
        <p:spPr>
          <a:xfrm>
            <a:off x="324000" y="1844640"/>
            <a:ext cx="309564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76500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6"/>
          <p:cNvSpPr/>
          <p:nvPr/>
        </p:nvSpPr>
        <p:spPr>
          <a:xfrm>
            <a:off x="560520" y="2060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　　全诗短短三节，三节中作者都用了同一个感叹词“唉”，三次重复，一次次加重了情感的力度。所有的兴奋、激动、盼望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……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尽在“唉”中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629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0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31" name="Picture 7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2"/>
          <p:cNvSpPr/>
          <p:nvPr/>
        </p:nvSpPr>
        <p:spPr>
          <a:xfrm>
            <a:off x="468360" y="633600"/>
            <a:ext cx="835164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收    获      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  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           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方素珍 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动了  动了 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鱼儿上当了 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哈 和我的手掌一样大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 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爸爸说 放了他吧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 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鱼小弟年纪太小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  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动了  动了 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鱼儿被骗了 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哇 比爸爸的手掌还要大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 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我也说 放了他吧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 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鱼爸爸年纪太大 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394920" y="1412640"/>
            <a:ext cx="2073600" cy="6120"/>
            <a:chOff x="394920" y="1412640"/>
            <a:chExt cx="2073600" cy="6120"/>
          </a:xfrm>
        </p:grpSpPr>
        <p:sp>
          <p:nvSpPr>
            <p:cNvPr id="634" name="直线连接符 21"/>
            <p:cNvSpPr/>
            <p:nvPr/>
          </p:nvSpPr>
          <p:spPr>
            <a:xfrm flipV="1">
              <a:off x="395280" y="141264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5" name=""/>
            <p:cNvSpPr txBox="1"/>
            <p:nvPr/>
          </p:nvSpPr>
          <p:spPr>
            <a:xfrm rot="10800000">
              <a:off x="394920" y="141228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36" name="Picture 7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637" name="矩形 35844"/>
          <p:cNvSpPr txBox="1"/>
          <p:nvPr/>
        </p:nvSpPr>
        <p:spPr>
          <a:xfrm>
            <a:off x="759636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www.xkb1.com</a:t>
            </a:r>
            <a:endParaRPr b="0" i="1" lang="en-US" sz="18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1835280" y="1483920"/>
            <a:ext cx="475272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黄昏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两手空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轻轻松松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心里却装满了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鱼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满满在心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6"/>
          <p:cNvSpPr/>
          <p:nvPr/>
        </p:nvSpPr>
        <p:spPr>
          <a:xfrm>
            <a:off x="1332000" y="2641680"/>
            <a:ext cx="68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　　同学们喜欢外边的世界吗？可以在爸爸妈妈的陪同下多出去走走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642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3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44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3"/>
          <p:cNvSpPr/>
          <p:nvPr/>
        </p:nvSpPr>
        <p:spPr>
          <a:xfrm>
            <a:off x="1692360" y="1976400"/>
            <a:ext cx="49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同学们，明天我们也可以远足了，你们又会因为什么而睡不着觉呢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323640" y="1484280"/>
            <a:ext cx="2073600" cy="6480"/>
            <a:chOff x="323640" y="1484280"/>
            <a:chExt cx="2073600" cy="6480"/>
          </a:xfrm>
        </p:grpSpPr>
        <p:sp>
          <p:nvSpPr>
            <p:cNvPr id="647" name="直线连接符 21"/>
            <p:cNvSpPr/>
            <p:nvPr/>
          </p:nvSpPr>
          <p:spPr>
            <a:xfrm flipV="1">
              <a:off x="324000" y="1484280"/>
              <a:ext cx="207324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8" name=""/>
            <p:cNvSpPr txBox="1"/>
            <p:nvPr/>
          </p:nvSpPr>
          <p:spPr>
            <a:xfrm rot="10800000">
              <a:off x="323640" y="1484280"/>
              <a:ext cx="20732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49" name="Picture 7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天要远足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翻过来，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睡不着。 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               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翻过去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睡不着 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                          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翻过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翻过去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底什么时候 ，才天亮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39938"/>
          <p:cNvSpPr txBox="1"/>
          <p:nvPr/>
        </p:nvSpPr>
        <p:spPr>
          <a:xfrm>
            <a:off x="759636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www.xkb1.com</a:t>
            </a:r>
            <a:endParaRPr b="0" i="1" lang="en-US" sz="18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53" name="WordArt 6" descr=""/>
          <p:cNvPicPr/>
          <p:nvPr/>
        </p:nvPicPr>
        <p:blipFill>
          <a:blip r:embed="rId1"/>
          <a:stretch/>
        </p:blipFill>
        <p:spPr>
          <a:xfrm>
            <a:off x="1752480" y="1746360"/>
            <a:ext cx="6015240" cy="20732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468360" y="3213000"/>
            <a:ext cx="329400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19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grpSp>
          <p:nvGrpSpPr>
            <p:cNvPr id="520" name=""/>
            <p:cNvGrpSpPr/>
            <p:nvPr/>
          </p:nvGrpSpPr>
          <p:grpSpPr>
            <a:xfrm>
              <a:off x="466560" y="1267920"/>
              <a:ext cx="2073600" cy="662040"/>
              <a:chOff x="466560" y="1267920"/>
              <a:chExt cx="2073600" cy="662040"/>
            </a:xfrm>
          </p:grpSpPr>
          <p:sp>
            <p:nvSpPr>
              <p:cNvPr id="521" name="直线连接符 21"/>
              <p:cNvSpPr/>
              <p:nvPr/>
            </p:nvSpPr>
            <p:spPr>
              <a:xfrm flipV="1">
                <a:off x="466560" y="1267920"/>
                <a:ext cx="2073600" cy="66204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22" name=""/>
              <p:cNvSpPr txBox="1"/>
              <p:nvPr/>
            </p:nvSpPr>
            <p:spPr>
              <a:xfrm rot="10800000">
                <a:off x="466560" y="1267560"/>
                <a:ext cx="2073600" cy="66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523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525" name="WordArt 21"/>
          <p:cNvSpPr txBox="1"/>
          <p:nvPr/>
        </p:nvSpPr>
        <p:spPr>
          <a:xfrm>
            <a:off x="2124000" y="2565360"/>
            <a:ext cx="4343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4d004d"/>
                  </a:outerShdw>
                </a:effectLst>
                <a:uFillTx/>
                <a:latin typeface="宋体"/>
              </a:rPr>
              <a:t>认一认</a:t>
            </a:r>
            <a:endParaRPr b="0" i="1" lang="en-US" sz="2400" spc="-1" strike="noStrike" u="sng">
              <a:ln w="0">
                <a:noFill/>
              </a:ln>
              <a:solidFill>
                <a:srgbClr val="800080"/>
              </a:solidFill>
              <a:effectLst>
                <a:outerShdw dist="153753" dir="2700000" blurRad="0" rotWithShape="0">
                  <a:srgbClr val="4d004d"/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526" name="矩形 17415"/>
          <p:cNvSpPr txBox="1"/>
          <p:nvPr/>
        </p:nvSpPr>
        <p:spPr>
          <a:xfrm>
            <a:off x="759636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www.xkb1.com</a:t>
            </a:r>
            <a:endParaRPr b="0" i="1" lang="en-US" sz="18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Arial"/>
              </a:rPr>
              <a:t>睡   那   海     真    老师     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Arial"/>
              </a:rPr>
              <a:t>同     什     才    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29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grpSp>
          <p:nvGrpSpPr>
            <p:cNvPr id="530" name=""/>
            <p:cNvGrpSpPr/>
            <p:nvPr/>
          </p:nvGrpSpPr>
          <p:grpSpPr>
            <a:xfrm>
              <a:off x="466560" y="1267920"/>
              <a:ext cx="2073600" cy="662040"/>
              <a:chOff x="466560" y="1267920"/>
              <a:chExt cx="2073600" cy="662040"/>
            </a:xfrm>
          </p:grpSpPr>
          <p:sp>
            <p:nvSpPr>
              <p:cNvPr id="531" name="直线连接符 21"/>
              <p:cNvSpPr/>
              <p:nvPr/>
            </p:nvSpPr>
            <p:spPr>
              <a:xfrm flipV="1">
                <a:off x="466560" y="1267920"/>
                <a:ext cx="2073600" cy="66204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32" name=""/>
              <p:cNvSpPr txBox="1"/>
              <p:nvPr/>
            </p:nvSpPr>
            <p:spPr>
              <a:xfrm rot="10800000">
                <a:off x="466560" y="1267560"/>
                <a:ext cx="2073600" cy="66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533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535" name="WordArt 21"/>
          <p:cNvSpPr txBox="1"/>
          <p:nvPr/>
        </p:nvSpPr>
        <p:spPr>
          <a:xfrm>
            <a:off x="2124000" y="2565360"/>
            <a:ext cx="4343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4d004d"/>
                  </a:outerShdw>
                </a:effectLst>
                <a:uFillTx/>
                <a:latin typeface="宋体"/>
              </a:rPr>
              <a:t>写一写</a:t>
            </a:r>
            <a:endParaRPr b="0" i="1" lang="en-US" sz="2400" spc="-1" strike="noStrike" u="sng">
              <a:ln w="0">
                <a:noFill/>
              </a:ln>
              <a:solidFill>
                <a:srgbClr val="800080"/>
              </a:solidFill>
              <a:effectLst>
                <a:outerShdw dist="153753" dir="2700000" blurRad="0" rotWithShape="0">
                  <a:srgbClr val="4d004d"/>
                </a:outerShdw>
              </a:effectLst>
              <a:uFillTx/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537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538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39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40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541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42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543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44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545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6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7" name="Text Box 16"/>
          <p:cNvSpPr/>
          <p:nvPr/>
        </p:nvSpPr>
        <p:spPr>
          <a:xfrm>
            <a:off x="3276720" y="76500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Arial"/>
                <a:ea typeface="楷体_GB2312"/>
              </a:rPr>
              <a:t>c</a:t>
            </a: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á</a:t>
            </a: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Arial"/>
                <a:ea typeface="楷体_GB2312"/>
              </a:rPr>
              <a:t>i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8" name="Text Box 17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7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才</a:t>
            </a:r>
            <a:endParaRPr b="0" i="1" lang="en-US" sz="2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550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551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52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53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554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55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556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57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558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0" name="Text Box 16"/>
          <p:cNvSpPr/>
          <p:nvPr/>
        </p:nvSpPr>
        <p:spPr>
          <a:xfrm>
            <a:off x="2627280" y="549360"/>
            <a:ext cx="38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Arial"/>
                <a:ea typeface="楷体_GB2312"/>
              </a:rPr>
              <a:t>m</a:t>
            </a: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í</a:t>
            </a: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Arial"/>
                <a:ea typeface="楷体_GB2312"/>
              </a:rPr>
              <a:t>ng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1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7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明</a:t>
            </a:r>
            <a:endParaRPr b="0" i="1" lang="en-US" sz="2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563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564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65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66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567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68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569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70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571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2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3" name="Text Box 16"/>
          <p:cNvSpPr/>
          <p:nvPr/>
        </p:nvSpPr>
        <p:spPr>
          <a:xfrm>
            <a:off x="3276720" y="62064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Arial"/>
                <a:ea typeface="楷体_GB2312"/>
              </a:rPr>
              <a:t>tóng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7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同</a:t>
            </a:r>
            <a:endParaRPr b="0" i="1" lang="en-US" sz="2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576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577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78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79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580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81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582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83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584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5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6" name="Text Box 16"/>
          <p:cNvSpPr/>
          <p:nvPr/>
        </p:nvSpPr>
        <p:spPr>
          <a:xfrm>
            <a:off x="2484360" y="765000"/>
            <a:ext cx="43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xué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7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7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学</a:t>
            </a:r>
            <a:endParaRPr b="0" i="1" lang="en-US" sz="2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8" name="矩形 23562"/>
          <p:cNvSpPr txBox="1"/>
          <p:nvPr/>
        </p:nvSpPr>
        <p:spPr>
          <a:xfrm>
            <a:off x="759636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www.xkb1.com</a:t>
            </a:r>
            <a:endParaRPr b="0" i="1" lang="en-US" sz="18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4:54:00Z</dcterms:created>
  <dc:creator/>
  <dc:description/>
  <dc:language>en-US</dc:language>
  <cp:lastModifiedBy>万润仪器贸易公司</cp:lastModifiedBy>
  <dcterms:modified xsi:type="dcterms:W3CDTF">2020-08-24T01:54:51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